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191120" y="4800600"/>
            <a:ext cx="463536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3683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72640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080" y="1625760"/>
            <a:ext cx="5879880" cy="3047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2080" y="5181120"/>
            <a:ext cx="587988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244520" y="4800600"/>
            <a:ext cx="4635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58176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68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63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205848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4000"/>
          </a:bodyPr>
          <a:p>
            <a:pPr marL="546120" indent="-3236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10263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51596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20055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17880" y="2488680"/>
            <a:ext cx="421668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400680" indent="-2376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5348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11276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47204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269720" y="914040"/>
            <a:ext cx="10464840" cy="792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5634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350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145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9933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Tackling the Essay on the AP Literature Exam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22c"/>
                </a:solidFill>
                <a:latin typeface="Hoefler Text"/>
              </a:rPr>
              <a:t>Strategies for Writing</a:t>
            </a: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045040" y="4145040"/>
            <a:ext cx="29023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  <a:ea typeface="Hoefler Text"/>
              </a:rPr>
              <a:t>Body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3840" y="317160"/>
            <a:ext cx="12306240" cy="929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4422c"/>
                </a:solidFill>
                <a:latin typeface="Hoefler Text"/>
              </a:rPr>
              <a:t>Organize according to sub-themes or sub-motifs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4422c"/>
                </a:solidFill>
                <a:latin typeface="Hoefler Text"/>
              </a:rPr>
              <a:t>Cite relevant textual evidence (devices and elements)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4422c"/>
                </a:solidFill>
                <a:latin typeface="Hoefler Text"/>
              </a:rPr>
              <a:t>Clearly connect evidence to thesis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4422c"/>
                </a:solidFill>
                <a:latin typeface="Hoefler Text"/>
              </a:rPr>
              <a:t>Use transitional expressions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4422c"/>
                </a:solidFill>
                <a:latin typeface="Hoefler Text"/>
              </a:rPr>
              <a:t>Weave evidence together (suggestion: use thread from intro strategy to connect)</a:t>
            </a:r>
            <a:endParaRPr b="0" lang="en-US" sz="5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53160" y="4145040"/>
            <a:ext cx="6886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  <a:ea typeface="Hoefler Text"/>
              </a:rPr>
              <a:t>Conclusions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69720" y="170136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Avoid re-phrasing the thesis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Draw a conclusion - what do you want your reader to carry with him/her?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onnect to intro strategy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06360" y="3098880"/>
            <a:ext cx="10591920" cy="3556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</a:rPr>
              <a:t>Explicate the Prompt 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42720" y="1701360"/>
            <a:ext cx="12318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What are the explicit questions?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What are the implicit questions?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Does it reference a quote?  Why?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16680" indent="-34956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Look for key verbs and suggested rhetorical devices.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378432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</a:rPr>
              <a:t>Pre-Writing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7" name=""/>
          <p:cNvSpPr/>
          <p:nvPr/>
        </p:nvSpPr>
        <p:spPr>
          <a:xfrm>
            <a:off x="1130400" y="5486400"/>
            <a:ext cx="103251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44422c"/>
                </a:solidFill>
                <a:latin typeface="Hoefler Text"/>
                <a:ea typeface="Hoefler Text"/>
              </a:rPr>
              <a:t>Just because you’re AP doesn’t mean you don’t need it.  Trust me, it helps.</a:t>
            </a:r>
            <a:endParaRPr b="0" lang="en-US" sz="55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93840" y="584280"/>
            <a:ext cx="12344400" cy="8826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656640" indent="-3722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Identify major motifs from literature that correspond with the focus of the prompt.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  <a:p>
            <a:pPr marL="656640" indent="-3722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Have a theme (observation) in mind that connects to the focus of the prompt.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  <a:p>
            <a:pPr marL="656640" indent="-3722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List the most prevalent rhetorical devices and elements used (underline in text if applicable)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95840" y="4145040"/>
            <a:ext cx="3600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  <a:ea typeface="Hoefler Text"/>
              </a:rPr>
              <a:t>Thesis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86960" y="622440"/>
            <a:ext cx="11417400" cy="8508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Focus on author purpos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Focus on author styl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onnect microcosm of literature to macrocosm (theme)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ONE sentence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613960" y="4145040"/>
            <a:ext cx="7764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4422c"/>
                </a:solidFill>
                <a:latin typeface="Hoefler Text"/>
                <a:ea typeface="Hoefler Text"/>
              </a:rPr>
              <a:t>Introductions</a:t>
            </a:r>
            <a:endParaRPr b="0" lang="en-US" sz="96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69800" y="520560"/>
            <a:ext cx="11849040" cy="915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650160" indent="-3686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2-4 sentences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Use an advanced strategy: extended metaphor, allusion, or simile, paradox, parallel character, smattering, etc.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End with your thesis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  <a:p>
            <a:pPr marL="650160" indent="-368640">
              <a:lnSpc>
                <a:spcPct val="100000"/>
              </a:lnSpc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44422c"/>
                </a:solidFill>
                <a:latin typeface="Hoefler Text"/>
              </a:rPr>
              <a:t>Be sure to reference the title of the work and the author at some point</a:t>
            </a:r>
            <a:endParaRPr b="0" lang="en-US" sz="5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